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74868-70A0-4EB3-9C48-E667406B3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563D1-B59C-4B0B-84B2-E924961C5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1252E-C426-456B-9ADD-F3361DEA5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B291E-2533-4BF1-BCE7-A2A4CED26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EF245-538E-4D82-91FC-696325DE9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00DC6-EDCF-4C81-A5EC-6BD210DC8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A758A-C25D-47BF-94CD-7A7BBA0A4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01674-1FC5-4EBD-94EC-2A7C966FF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7E71F-F077-491F-8689-F1700D32E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1FBE7-2FD0-4DE3-990D-64F59A82E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48301-ECB5-41E7-BD3B-82F3709D1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F5ACA-0FE9-4470-90F4-736B2DE29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6D07-59D0-4D66-958B-0E8D4F23C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4379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grayscl/>
          </a:blip>
          <a:srcRect l="19700" t="50010" r="15700" b="40000"/>
          <a:stretch/>
        </p:blipFill>
        <p:spPr>
          <a:xfrm>
            <a:off x="5738760" y="3400560"/>
            <a:ext cx="1474920" cy="22860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1:18:14Z</dcterms:modified>
  <cp:revision>27</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